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4.wmf" ContentType="image/x-wmf"/>
  <Override PartName="/ppt/media/image12.png" ContentType="image/png"/>
  <Override PartName="/ppt/media/image20.jpeg" ContentType="image/jpeg"/>
  <Override PartName="/ppt/media/image7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D9BC4-6D94-4BF4-89E1-C0C74758476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FA828-222E-4A59-A266-8AD1A486626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9C5B-B41F-438E-AA39-F298748D676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05587-CA83-41FE-8C98-BAE1175227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E33BD-FD88-4FFE-AAEA-0171B4774A7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57E87-0F77-48E5-8487-2875ED82E93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1157B-809A-4CE2-9D46-7C8CB9E18F55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F2B1F-475A-43BF-A5EE-257BCBEE55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878C2-83FB-4A11-B669-E5D7F1D8D50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60BA-6A24-48D0-8DE3-73C5C2BEF9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33D9D-6FA5-4723-B150-A49FB7F8941F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328E9-67F7-4F50-B43E-0AE0AE93EFE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D77-C800-43DF-9B44-C0C714AD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CAC-387A-4A2D-9B23-F4F048B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25D-7E37-474F-8D14-AD5DA752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975-1E17-4F84-BCCD-E8DBB65C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6B7-A77E-4172-B67B-0607FAC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CB0-C45B-491E-8C65-E8F126C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52A-D437-41E0-86F4-219902E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557-39D8-48D4-9084-8E026F1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9C-0526-4895-9BA9-D8557EE7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9E1-8A02-4123-8F25-AFD9CBA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EE4-8D9B-4CAB-B8CF-EFAFF2B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675-8901-43DB-AFE7-5D46AC7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182-733A-43FD-832B-9434981871A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Costo energético. Regulación coordinada entre la degradación y la síntesis del glucógen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95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99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03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07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214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cuatro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5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9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 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00cc66"/>
                </a:solidFill>
                <a:latin typeface="Arial Rounded MT Bold"/>
              </a:rPr>
              <a:t>cebador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50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61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3456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711960" y="1773360"/>
            <a:ext cx="3026160" cy="1295280"/>
            <a:chOff x="3711960" y="1773360"/>
            <a:chExt cx="3026160" cy="1295280"/>
          </a:xfrm>
        </p:grpSpPr>
        <p:sp>
          <p:nvSpPr>
            <p:cNvPr id="53" name="Text Box 5"/>
            <p:cNvSpPr/>
            <p:nvPr/>
          </p:nvSpPr>
          <p:spPr>
            <a:xfrm>
              <a:off x="4434480" y="2492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6600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064120" y="3068640"/>
            <a:ext cx="3393360" cy="657360"/>
            <a:chOff x="5064120" y="3068640"/>
            <a:chExt cx="3393360" cy="657360"/>
          </a:xfrm>
        </p:grpSpPr>
        <p:sp>
          <p:nvSpPr>
            <p:cNvPr id="57" name="Text Box 9"/>
            <p:cNvSpPr/>
            <p:nvPr/>
          </p:nvSpPr>
          <p:spPr>
            <a:xfrm>
              <a:off x="50641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508360" y="3427560"/>
              <a:ext cx="1584000" cy="288720"/>
            </a:xfrm>
            <a:prstGeom prst="rightArrow">
              <a:avLst>
                <a:gd name="adj1" fmla="val 49454"/>
                <a:gd name="adj2" fmla="val 8686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3706920" y="3932280"/>
            <a:ext cx="2374200" cy="1370160"/>
            <a:chOff x="3706920" y="3932280"/>
            <a:chExt cx="2374200" cy="1370160"/>
          </a:xfrm>
        </p:grpSpPr>
        <p:sp>
          <p:nvSpPr>
            <p:cNvPr id="61" name="Text Box 13"/>
            <p:cNvSpPr/>
            <p:nvPr/>
          </p:nvSpPr>
          <p:spPr>
            <a:xfrm>
              <a:off x="370692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39920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420840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567360" y="33321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3970440" y="2179800"/>
            <a:ext cx="311040" cy="950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153520" y="23479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Glucógeno-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22" descr=""/>
          <p:cNvPicPr/>
          <p:nvPr/>
        </p:nvPicPr>
        <p:blipFill>
          <a:blip r:embed="rId2"/>
          <a:stretch/>
        </p:blipFill>
        <p:spPr>
          <a:xfrm>
            <a:off x="1677960" y="3357720"/>
            <a:ext cx="1522440" cy="358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577520" y="29876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upo 2"/>
          <p:cNvGrpSpPr/>
          <p:nvPr/>
        </p:nvGrpSpPr>
        <p:grpSpPr>
          <a:xfrm>
            <a:off x="1990080" y="3933720"/>
            <a:ext cx="2289960" cy="936720"/>
            <a:chOff x="1990080" y="3933720"/>
            <a:chExt cx="2289960" cy="936720"/>
          </a:xfrm>
        </p:grpSpPr>
        <p:sp>
          <p:nvSpPr>
            <p:cNvPr id="70" name="AutoShape 7"/>
            <p:cNvSpPr/>
            <p:nvPr/>
          </p:nvSpPr>
          <p:spPr>
            <a:xfrm>
              <a:off x="3992760" y="39337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1990080" y="422172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6600"/>
                  </a:solidFill>
                  <a:latin typeface="Arial"/>
                </a:rPr>
                <a:t>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6"/>
          <p:cNvSpPr/>
          <p:nvPr/>
        </p:nvSpPr>
        <p:spPr>
          <a:xfrm>
            <a:off x="369936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 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8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ángulo 1"/>
          <p:cNvSpPr/>
          <p:nvPr/>
        </p:nvSpPr>
        <p:spPr>
          <a:xfrm>
            <a:off x="5076720" y="2708280"/>
            <a:ext cx="3816360" cy="15127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adroTexto 2"/>
          <p:cNvSpPr/>
          <p:nvPr/>
        </p:nvSpPr>
        <p:spPr>
          <a:xfrm>
            <a:off x="6507000" y="2300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pic>
          <p:nvPicPr>
            <p:cNvPr id="289" name="Picture 4" descr="fi16p10"/>
            <p:cNvPicPr/>
            <p:nvPr/>
          </p:nvPicPr>
          <p:blipFill>
            <a:blip r:embed="rId1"/>
            <a:stretch/>
          </p:blipFill>
          <p:spPr>
            <a:xfrm>
              <a:off x="227160" y="2281320"/>
              <a:ext cx="866592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5"/>
            <p:cNvSpPr/>
            <p:nvPr/>
          </p:nvSpPr>
          <p:spPr>
            <a:xfrm>
              <a:off x="4788000" y="2205000"/>
              <a:ext cx="30970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6"/>
          <p:cNvSpPr/>
          <p:nvPr/>
        </p:nvSpPr>
        <p:spPr>
          <a:xfrm>
            <a:off x="6253920" y="3392640"/>
            <a:ext cx="2769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Amilo </a:t>
            </a:r>
            <a:r>
              <a:rPr b="1" i="1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1,4 →1,6)-gluco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410280" y="4869000"/>
            <a:ext cx="10188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Ext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no re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882920" y="4005360"/>
            <a:ext cx="901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Pu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am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l-GR" sz="1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 flipH="1" flipV="1">
            <a:off x="539280" y="3428640"/>
            <a:ext cx="28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ángulo 11"/>
          <p:cNvSpPr/>
          <p:nvPr/>
        </p:nvSpPr>
        <p:spPr>
          <a:xfrm>
            <a:off x="87480" y="2637000"/>
            <a:ext cx="4989240" cy="79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300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301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32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25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30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36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39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34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34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34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35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6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6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6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7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Papel del hígado como regulador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fuente de glucosa para los tejidos extrahepáticos,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hígado mantiene la glucemia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3517920" y="275580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022400" y="2282760"/>
            <a:ext cx="23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1"/>
          <p:cNvSpPr/>
          <p:nvPr/>
        </p:nvSpPr>
        <p:spPr>
          <a:xfrm rot="2078400">
            <a:off x="4249440" y="461772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7"/>
          <p:cNvSpPr/>
          <p:nvPr/>
        </p:nvSpPr>
        <p:spPr>
          <a:xfrm rot="2078400">
            <a:off x="4222800" y="495792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8"/>
          <p:cNvSpPr/>
          <p:nvPr/>
        </p:nvSpPr>
        <p:spPr>
          <a:xfrm rot="3060600">
            <a:off x="3952800" y="530532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echa: hacia abajo 2"/>
          <p:cNvSpPr/>
          <p:nvPr/>
        </p:nvSpPr>
        <p:spPr>
          <a:xfrm>
            <a:off x="1960560" y="3516480"/>
            <a:ext cx="287280" cy="549000"/>
          </a:xfrm>
          <a:prstGeom prst="downArrow">
            <a:avLst>
              <a:gd name="adj1" fmla="val 50000"/>
              <a:gd name="adj2" fmla="val 50138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265680" y="404028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&gt;&gt;&gt; Glucogenólisis he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upo 10"/>
          <p:cNvGrpSpPr/>
          <p:nvPr/>
        </p:nvGrpSpPr>
        <p:grpSpPr>
          <a:xfrm>
            <a:off x="1700640" y="4495680"/>
            <a:ext cx="994680" cy="1119600"/>
            <a:chOff x="1700640" y="4495680"/>
            <a:chExt cx="994680" cy="1119600"/>
          </a:xfrm>
        </p:grpSpPr>
        <p:sp>
          <p:nvSpPr>
            <p:cNvPr id="82" name="Flecha: hacia abajo 9"/>
            <p:cNvSpPr/>
            <p:nvPr/>
          </p:nvSpPr>
          <p:spPr>
            <a:xfrm>
              <a:off x="1960200" y="4495680"/>
              <a:ext cx="287640" cy="36036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uadroTexto 4"/>
            <p:cNvSpPr/>
            <p:nvPr/>
          </p:nvSpPr>
          <p:spPr>
            <a:xfrm>
              <a:off x="1700640" y="52470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lecha: hacia abajo 12"/>
            <p:cNvSpPr/>
            <p:nvPr/>
          </p:nvSpPr>
          <p:spPr>
            <a:xfrm>
              <a:off x="1960200" y="4901040"/>
              <a:ext cx="287640" cy="36036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upo 11"/>
          <p:cNvGrpSpPr/>
          <p:nvPr/>
        </p:nvGrpSpPr>
        <p:grpSpPr>
          <a:xfrm>
            <a:off x="219240" y="5578560"/>
            <a:ext cx="2513160" cy="873720"/>
            <a:chOff x="219240" y="5578560"/>
            <a:chExt cx="2513160" cy="873720"/>
          </a:xfrm>
        </p:grpSpPr>
        <p:sp>
          <p:nvSpPr>
            <p:cNvPr id="86" name="CuadroTexto 5"/>
            <p:cNvSpPr/>
            <p:nvPr/>
          </p:nvSpPr>
          <p:spPr>
            <a:xfrm>
              <a:off x="1649520" y="60840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lecha: hacia abajo 13"/>
            <p:cNvSpPr/>
            <p:nvPr/>
          </p:nvSpPr>
          <p:spPr>
            <a:xfrm>
              <a:off x="1959840" y="5620320"/>
              <a:ext cx="288000" cy="549000"/>
            </a:xfrm>
            <a:prstGeom prst="downArrow">
              <a:avLst>
                <a:gd name="adj1" fmla="val 50000"/>
                <a:gd name="adj2" fmla="val 50013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uadroTexto 6"/>
            <p:cNvSpPr/>
            <p:nvPr/>
          </p:nvSpPr>
          <p:spPr>
            <a:xfrm>
              <a:off x="219240" y="5578560"/>
              <a:ext cx="195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3333ff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3333ff"/>
                  </a:solidFill>
                  <a:latin typeface="Arial"/>
                </a:rPr>
                <a:t>(só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CuadroTexto 14"/>
          <p:cNvSpPr/>
          <p:nvPr/>
        </p:nvSpPr>
        <p:spPr>
          <a:xfrm>
            <a:off x="3513240" y="2278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¿Qué sucede cuando se agota la reserva de Glucóge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ector recto de flecha 16"/>
          <p:cNvCxnSpPr/>
          <p:nvPr/>
        </p:nvCxnSpPr>
        <p:spPr>
          <a:xfrm flipV="1">
            <a:off x="2655720" y="4181040"/>
            <a:ext cx="1269360" cy="1987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77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82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3480" y="90792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triglicérid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118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119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137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41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45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49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56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60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uadroTexto 1"/>
          <p:cNvSpPr/>
          <p:nvPr/>
        </p:nvSpPr>
        <p:spPr>
          <a:xfrm>
            <a:off x="2503080" y="558972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Fru-2,6-bi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2359080" y="5116680"/>
            <a:ext cx="122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o 2"/>
          <p:cNvGrpSpPr/>
          <p:nvPr/>
        </p:nvGrpSpPr>
        <p:grpSpPr>
          <a:xfrm>
            <a:off x="4889520" y="620640"/>
            <a:ext cx="4219560" cy="6210360"/>
            <a:chOff x="4889520" y="620640"/>
            <a:chExt cx="4219560" cy="6210360"/>
          </a:xfrm>
        </p:grpSpPr>
        <p:pic>
          <p:nvPicPr>
            <p:cNvPr id="189" name="Picture 6" descr=""/>
            <p:cNvPicPr/>
            <p:nvPr/>
          </p:nvPicPr>
          <p:blipFill>
            <a:blip r:embed="rId1"/>
            <a:stretch/>
          </p:blipFill>
          <p:spPr>
            <a:xfrm>
              <a:off x="4889520" y="620640"/>
              <a:ext cx="421956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CuadroTexto 1"/>
            <p:cNvSpPr/>
            <p:nvPr/>
          </p:nvSpPr>
          <p:spPr>
            <a:xfrm>
              <a:off x="8024400" y="321300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uadroTexto 6"/>
            <p:cNvSpPr/>
            <p:nvPr/>
          </p:nvSpPr>
          <p:spPr>
            <a:xfrm>
              <a:off x="7952400" y="494136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8-04-18T20:54:23Z</dcterms:modified>
  <cp:revision>78</cp:revision>
  <dc:subject/>
  <dc:title>Diapositiva 1</dc:title>
</cp:coreProperties>
</file>